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440-375A-42A5-A92C-434B27BE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AAC-FF41-4B77-B752-2735323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420-356C-4F2B-96CF-9F7EA879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038-DB61-443D-8B2D-EF655E2E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8994-646B-4CAD-8BAC-D531A1E0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6D80-8003-4C5B-93F9-B904156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9168-1B25-4FB2-A5D7-E4426F40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79FE-6B81-479D-AAF9-EC55E8F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B55-D3CB-40B8-9A70-D801FE93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2FB-F7BF-4B56-80C9-A7ED66D5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732C-D3A0-4781-8AE3-84359BA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B29-695C-46B6-AC5C-7EFDE7B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DAE-00AE-4773-AD68-CF2A470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81B3-273A-4E85-B981-37F265BA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22A2-F4E3-415F-A7DE-CE8187E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BD2C-0B98-4E59-9700-051F817A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0AA-8E48-410C-9AC0-CB858A3B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290A-3B10-45A0-8BAB-DDA5FAD5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63E4-947A-49C1-9B52-CCB3B8DD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A486-D7C8-44CA-BCD1-07A8371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5045-D46E-4ED2-9E2F-95BECDF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94DC-444B-44ED-9ABF-10C3C87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6BA-C18C-45DD-876F-F206D22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653C-A486-45A8-9A91-8C5500EE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DB08-916E-4621-ABEE-D37D028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248E-A29B-4A98-B20D-B216D62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80EA-E39F-49F5-8C44-00A0A0D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F004-80B0-4ACC-9BA9-11AADBC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5DAA-95F8-4C1E-9264-CEB619BB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B496-28F0-4641-B94D-3CAEFE71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00C1-D18D-43E8-A84E-EE49001D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B8C5-0DA3-4FA3-8CE7-8B13D11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BAF23-C254-4017-B4DE-36B49948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91F-5776-4A61-80C9-1EA08102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508D-83F5-442C-94BA-3CDD1C3E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A21B-FD08-4950-938E-2C1E6D5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CD1D-F150-4DFC-B363-296E599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C6B0-0D7C-4491-9476-C65394C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B175-A0F6-4A46-A4FC-0C1A5DBC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750C-F614-4446-95E4-4788AA4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D94B-B7E2-43CC-9B7F-A30C4642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91D9-0C39-4305-BE50-0CA5CBD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BF82-2C3D-40A1-A983-BBFD553C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4F99-B6DB-4690-BD7C-9A2FD31C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35F-A09B-49B2-96DA-071A675E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3369-3AD5-4858-94A7-A3DF545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60ED-58E3-4A3B-93AC-2BE8F84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34D3-FC67-42C5-8EB8-F436602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2468-0F99-409A-88D6-7FD8B65B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EE05-5412-47A4-B78B-A0C5ED4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6EFEB-9370-4C12-BFB6-756C2BA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7CD2-EBCC-430B-9728-572A8D5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00F4-B96A-4EF1-995F-F850FE2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39B5-4C8B-4938-A0AE-9179E69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73BB-D213-4D36-B72D-6C6BE564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4A1-808C-47E9-92A1-0F1CEB1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C8EB-C5E4-4633-A2C1-1A4192F7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9E4-C1E8-4FD7-807B-9AEFBEF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CCE-71BB-4234-8823-F931D8E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709-5676-40A3-B121-D14C4A0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5F94-BBA6-48BF-A28E-497C783C56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32C-18CA-4FD3-8AA6-12CB540578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283-F0BC-438F-A72E-7047A45FBD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D8E9-0225-4F75-A49B-66E1319B5B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CBED-D028-41B0-8537-618FEAAB2F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Хематолошке болести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о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стале урођене трoмбофилије се односе на мутације гена одговорних за синтезу протеина који учествују у разградњи фактора коагулације- дефицијенција протеина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, 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ли дефицијенцију антитромби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ечене трoмбофилије се јављају у склопу аутоимуних поремећаја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upus anticoagulans, antifosfolipidni sindrom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карактеришу се синтезом ауто-антитела на протеине одговорне за разградњу фактора коагула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о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ма последњим истраживањима и препоруци Америчког удружења гинеколога урођене тромбофилије (сем недостатка антитромбина!) не захтевају лечење или чак тестирање, без претходне епизоде тромбозе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ије уочена повезаност између генетски, али не и клинички потврђене урођене тромбофилије и непожељних завршетака трудноће (спонтани побачај, превремено одлубљивање постељице, интраутерина смрт плод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3" name="Picture 19" descr=""/>
          <p:cNvPicPr/>
          <p:nvPr/>
        </p:nvPicPr>
        <p:blipFill>
          <a:blip r:embed="rId1"/>
          <a:srcRect l="0" t="26558" r="0" b="26558"/>
          <a:stretch/>
        </p:blipFill>
        <p:spPr>
          <a:xfrm>
            <a:off x="2627280" y="189000"/>
            <a:ext cx="4032360" cy="4173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3640" y="1125360"/>
            <a:ext cx="835164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Трудноћа је специфично стање за све органске системе, укључујући и хематопоезни сис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Генерално, у трудноћи долази до појачања  синтезе свих крвних деривата; у другом триместру се јавља хиперволемија јер се синтетише до 1500мл додатне крвне плазме да би се омогућио раст и развој плода циркулисањем крви кроз постељиц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Та крв мора нечиме да се ,, напуни’’ – појачанa синтеза елемената и беле и црвене крвне лоз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хематолошко обољење у трудноћи; инциденца варира од 25-40% у Србији(зависно од аутора и подруч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лавни разлог се тако велике учесталости је недостатак  гвожђа; потребе за гвожђем расту од другог триместра и крећу се од 30-60 мг днев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правилна,а не оскудна исхрана j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ausa principalis 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ајчешћи узрок су  анемије услед недостатка гвожђа&gt;6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руге по учесталости су анемије услед крварења- 25%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еостали број анемија припада мегалобластним   апластичним  и хемолитичким анемија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914400" y="1916280"/>
            <a:ext cx="37497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требе за гвожђем расту како трудноћа напредује, тако се и анемија услед недостатка гвожђа јавља углавном у другом триместр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азвој ове врсте анемије прати раст трудноће; пад еритроцита и вредности хемоглобина(&lt;120) у периферном размазу крви је све већи уколико се анемија не леч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немије услед недостатка гвожђа су упорне и остављају последице како и на трудницу тако и на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клиничкој слици код трудница доминира малаксалост, замор и бледил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уготрајне анемије у трудноћи могу довести до застоја у расту плода и феталне анемије, што за последицу може имати  интраутерини застој у расту (ИУЗР) или превремени порођај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 се правилном исхраном и суплементима гвожђа уз обавезни додатак фолне кисели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се наставља и после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немије услед крварења се  јављају обично после порођаја или побачаја; могу се јавити и услед  превремене абрупције постељиц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убитак  крви после порођаја је обично велик, али је надокнађен претходном хиперволемиј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зависности од врсте порођаја, као и величине трудноће и труднице губитак крви не би смео да прелази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2 лит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трансфузија, препарати плазме као и препарати гвожђ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е у трудноћ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Мегалобластне анемије се јављају услед недостатка фолне киселине као и витамина Б12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Апластичне анемије су карактеристичне за трудноће са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HIV-o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Хемолитичка анемија се јавља услед других болести у трудноћи 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IH, HELLP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37497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мбофилиј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рођена или стечена дефицијенција  протеина који инхибирају каскаду коагула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рођене тромбофилије се односе на урођени недостатак  који настаје услед генских мутација; готово све урођене тромбофилије су аутозомно доминантне и инкопатибилне са живот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а ли ће се нека тромбофилија развити у тромбозу зависи од експресивности мутираног гена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а је мутација фактора V,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Лејденова мут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која се јавља код око 20% жена беле расе у Европ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7:40Z</dcterms:modified>
  <cp:revision>193</cp:revision>
  <dc:subject/>
  <dc:title>ФАКУЛТЕТ МЕДИЦИНСКИХ НАУКА УНИВЕРЗИТЕТ У КРАГУЈЕВЦУ</dc:title>
</cp:coreProperties>
</file>