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CA6-F27B-436F-9624-B3CFBA20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16D-A334-4143-A135-27145452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1DE-8EE5-46C5-9910-7C025B83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4A5-9E0B-4C2C-B320-1C567FB4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4AC6-D05A-47A9-BDBA-F26D40F6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D65F-563D-4A2A-A3C2-40D921B0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5072-403E-46C0-92AE-4854B8D1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E138-0FCB-4628-B821-46552EE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8E36-8429-42D8-B2CB-956A3AA7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064E-5260-4502-967C-19BFCE78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E4DB-85E1-4912-A688-2566DA4F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A26-747B-4521-A98A-831320D9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1CD5-6186-4F45-AAD4-57C510A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B07E-AD89-4228-A895-B2A8B7F8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C0E9-75B4-4BDE-BA11-834EE518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072C-6480-4DB3-BE93-B8AED117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B03B-BC2D-484B-8EC3-3E6385E4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6BAC8-720B-4C3B-BB9B-F7CAEC33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8928B-D1BF-4DEE-B580-06225F8D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5920-05CA-4640-B7FB-203E8710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B294-E272-42CB-91EA-E04065B1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95F08-502C-4D19-955F-9BC95D3C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825-F47E-4DA0-8256-39547D11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A1FC-984C-41A0-8187-D6E0E07B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BEB3-C94D-4023-9143-D237C2D3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6581-589F-43AF-8FD5-54EC766B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85D41-5C47-4DD4-98C1-64986B73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127D0-DC91-4B65-80A0-E436808F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B4A78-FCE3-4D26-9D66-9A0CEA6E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6CCB-D1CB-4A29-81AB-64F395D8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26A50-D4A7-41C6-91C2-4FBB1421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AE7F-1742-4A36-8DF4-D7C0CD66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F5E33-9FD1-4BDC-8570-46CC7A83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4B9-1133-47C6-ABD4-1C05A60C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3F8A4-ADF7-4A32-AC4A-8C859891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646AB-7B9D-4551-9500-C44387B8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150D8-EACC-475F-B11E-DD6DD6AB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55C7F-519D-46E8-AF83-5023C583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73D0C-6AC4-4FD4-AE0A-D02E142B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2EDC1-97AF-49CA-AF74-4470831B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6E184-BF3A-41D8-985B-36D2FF2F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C8CA3-6A62-4B8D-B559-21665E94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47B2-1084-45E3-B5BE-7CCBD1A8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36CFC-BF87-434C-AD9F-09C3C18E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740-B6B4-40AD-9875-34A08276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DF999-029B-4689-99B2-27E0AEDD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86756-F5C4-4E13-B136-498B8BE2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DFD8-B6B1-469B-860D-6287B607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C7B2F-AC65-4FCA-B6C9-1606D359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79C79-1FD0-473D-B896-9C60B457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EAACD-4D58-4BB5-9FBE-F8EBF34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F18D-2012-4767-B3B3-B2C3091E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AB150-7740-45DC-9E1F-46B06713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56523-8651-448F-9B7C-B8196AC0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70385-B97B-4671-B072-860D90DB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1FD-D206-4831-B513-D83B7A8A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79B6-1CFB-4D4B-98D2-18C10D52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44E-E423-4331-8695-C407B20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7D9-D0EA-4D4D-BE1C-7D8197B8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71B-DEFF-491C-A4EA-72DF45CC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F84C-8523-4DCD-B2CC-F4F8933398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15C6-0478-48C0-A1AF-6006B93295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83BC-D5C9-478E-BB02-FB04DD995F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B90B-0B1E-4354-A396-32E38C238D5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90DB-B7B0-4B96-978B-43A1A8913E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Хируршка обољења у трудноћи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доц др </a:t>
            </a:r>
            <a:r>
              <a:rPr b="1" lang="sr-C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Петар Арсенијевић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Гинекологија и акушер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новне академске студ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50840"/>
            <a:ext cx="6324480" cy="12463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ФАКУЛТЕТ МЕДИЦИНСКИХ НАУКА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УНИВЕРЗИТЕТА У КРАГУЈЕВЦУ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ГАК КЦ КРАГУЈЕВАЦ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0" name="Content Placeholder 3" descr="Coat_of_Arms_of_Kragujevac_University.png"/>
          <p:cNvPicPr/>
          <p:nvPr/>
        </p:nvPicPr>
        <p:blipFill>
          <a:blip r:embed="rId1"/>
          <a:stretch/>
        </p:blipFill>
        <p:spPr>
          <a:xfrm>
            <a:off x="7742160" y="622440"/>
            <a:ext cx="93204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ромбоз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Код дубоке венске тромбозе јавља се бол и оток екстремите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Најчешће је захваћена поплитеална вен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ијагностика: клиничка слика, Доплер, НМР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Терапија је локална уз обавезну употребу ниско молекуарног хепарин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Опасност од плућне емболије!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Content Placeholder 6" descr="Deep-Vein-ThrombosisDeep-Vein-Thrombosis.png"/>
          <p:cNvPicPr/>
          <p:nvPr/>
        </p:nvPicPr>
        <p:blipFill>
          <a:blip r:embed="rId1"/>
          <a:stretch/>
        </p:blipFill>
        <p:spPr>
          <a:xfrm>
            <a:off x="914400" y="1490760"/>
            <a:ext cx="374976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Хируршка обољења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Утерус крајем другог триместра трудноће излази из оквира костију и простора мале карлиц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Померају се сви органи абдоминалне дупље што може узроковати проблеме у дијагностиц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Никада се не смеју искључити!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Content Placeholder 5" descr="Rast materice.png"/>
          <p:cNvPicPr/>
          <p:nvPr/>
        </p:nvPicPr>
        <p:blipFill>
          <a:blip r:embed="rId1"/>
          <a:stretch/>
        </p:blipFill>
        <p:spPr>
          <a:xfrm>
            <a:off x="914400" y="1967040"/>
            <a:ext cx="374976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пендицити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Акутно запаљење слепог црева, инциденца је 1/1000 трудноћа, што га чини најчешћим хируршким обољењем у трудноћ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линичка слика је готово идентична као и ван гравидитета; мучнина, гађење, повраћање –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hyperemesis gravidarum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укоцитоза у ККС-у, фебрилност (разлика ректалне и аксиларне температуре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пендицити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олази до дислокације бола; болна тачка код апендицитса је померена пут навише и назад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иференцијално дијагностички: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partus praetemporarius, pancretitis,  holecistiti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Терапија је хируршка, лапараскопски приступ је могућ у првом триместру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Content Placeholder 5" descr="Slepo crevo trudnoca.png"/>
          <p:cNvPicPr/>
          <p:nvPr/>
        </p:nvPicPr>
        <p:blipFill>
          <a:blip r:embed="rId1"/>
          <a:stretch/>
        </p:blipFill>
        <p:spPr>
          <a:xfrm>
            <a:off x="914400" y="1712880"/>
            <a:ext cx="374976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Хируршка обољења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Захваљујући расту утеруса, али и депресивном дејству прогестерона на цревну перисталтику, релативно су честа и друга хируршка обољењ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Ileu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е друго хируршко обољење по учесталости које се јавља у трудноћ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екид у континуитету цревне пасаже настаје најчешће механички, односно услед постојања претходних прираслиц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циденца је много већа у трудноћи после претходног царског реза- често наступа после порођаја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Холецистити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стаје на пољу холестазе односно застоја у пасажи жучних путе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Етиологија је нејасна; најчешће се јавља код трудница жуте рас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клиничкој слици доминирају наузеја, повараћање као и жута пребојеност коже са пруритус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уготрајна жутица може изазвати и феталну патњу јер неконјуговани билирубин лако пролаази фетоплацентну баријер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колико се не лечи може да се компликује панкреатитисом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ардиваскуларне болести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Захваљују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 чињеници да трудноћа више није стање млађих жена, као и да добар део трудноћа настаје  после вантелесне оплодње, све је већи број трудница са неком од срчаних ман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итрална инсуфицијенција је једна од најчешћих; немогућност  затварања митралне валвуле и враћање крви у плућну циркулациј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трудноћи се релативно добро подноси због смањења периферне резистенције (естроген, азотни оксиди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ардиваскуларне болести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лична ситуација је и са митралном стенозом, инсуфицијенцијом трикуспидне валвуле, као и стенозом плућне артер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вака трудноћа је ризична; појачан надзор уз терапију и дијету без соли; препоручени вид порођаја је вагинални уз епидуралну анестезију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амо код декомпензованих срчаних мана (ЕФ&lt; 40%) постоји индикација за завршетак трудноће царским рез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ардиваскуларне болести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ромбоза је најчешћа васкуларна болест у трудноћи; раст утеруса условљава притисак на доњу шупљу вену- то резултира проширеним венама доњих екстремите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јчешће су захваћене  вене доњих ектремитета и то најчешће на левој нози; може бити суперфицијална и дубок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суперфицијалне тромбозе вена јавља се црвенило и ливидност коже уз  пецкање и свраб- терапија је локална уз ношење еластичних чарап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7:32:03Z</dcterms:created>
  <dc:creator>Petar Arsenijevic</dc:creator>
  <dc:description/>
  <dc:language>en-US</dc:language>
  <cp:lastModifiedBy>nidza</cp:lastModifiedBy>
  <dcterms:modified xsi:type="dcterms:W3CDTF">2023-02-04T16:28:17Z</dcterms:modified>
  <cp:revision>197</cp:revision>
  <dc:subject/>
  <dc:title>ФАКУЛТЕТ МЕДИЦИНСКИХ НАУКА УНИВЕРЗИТЕТ У КРАГУЈЕВЦУ</dc:title>
</cp:coreProperties>
</file>