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6E0-53B0-4856-96EE-7762E4C7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070-ED0F-451C-B2F5-79D97747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412-6418-4128-BB5D-6E672599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69A-8522-4BBB-AD34-16EE1727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4109-B23B-4B5A-AC34-A871AD0A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D9FC-2A94-42B5-A6CF-F060A23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67AD-CD6B-4A78-B0E7-C79C0255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F563-B8A4-4723-8BC6-5DE8398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7853-ABC0-445D-98BF-5FF34EE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A9DB-F3B9-43F5-A52B-7AE14B4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F6A7-8682-45B9-A07F-330FD0C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957-ED40-401C-A29F-8BAB136B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815-9908-4404-9AED-69230B9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33E-7DD4-4594-8836-3485FA4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30E-36B4-4A36-94E1-8739E2F7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CD26-6162-4D8E-9BA7-9F72F3FE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0449-E191-4808-A55A-200CAA04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9B47-0709-47C1-A133-DF0B5AB5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710E-CC9C-4A2D-A602-1E8C3665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3D90-3EBB-498F-9984-4B723C4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B823-DD17-4C0E-ACAE-171035CE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0953-6E15-4F04-B343-3394094F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451-2CAD-4120-A265-8FF0D857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B4EB-B301-4139-9E04-D3ED6CF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57BA-30BF-4783-8FB4-D988D92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430F-5115-41EE-9323-FE863FD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6BFF-C0B6-41F9-B332-FB99890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3A17-27AD-4783-A43B-FFC27A8B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DC12-FD78-451A-BAA6-0852FA04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8518-E498-4F91-A178-AB2E680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B094-0788-4497-AEF2-21CCB5B8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B9BF-5BD7-4BC5-8F0A-2ED1A0DA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3957-F581-4DA0-B62A-F69A3789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6AA-F275-4B69-B39B-D9D85E08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6C96-CE99-4AD3-BE38-08CAD69C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CA40-CEE8-46D5-953E-8C1EF44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F58C-4DCB-48A7-9FF9-71A2B470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4F02-D734-45B4-AAC8-885FA720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0507-2722-4ED0-BB4A-308F8B5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5D33-0497-4CC7-B594-EE33882A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7B1E-46E7-4194-BB1B-D2F166F8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9F26-F2EE-4F93-925C-604F8EDA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3778-1D64-4C3D-8AA4-4BB8F742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6D95-4709-4A26-90E5-4BC80511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60B-4CFC-4B55-8C7A-E15D97CD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FE84-1CC3-4339-8E18-5B8C7F8C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B86D-D0DC-4038-A270-92A95B3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8ACA-3D5A-4625-8CB3-66C7575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84D4C-3290-44C6-9208-1E06227E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9299-5A2A-4D81-AE07-C585EF6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6386-1D64-4CD5-B6A4-59A6D20A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54CD-2602-4CAD-88FB-27B9D08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558F-B1F1-4609-AC60-569CFF51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8B80-4A76-4634-85CF-EC7056D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F266-EF21-43A1-95F9-D881BEF1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EF8-6060-4164-903A-2051C413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43CE-CF99-4475-B807-C14D2CBE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298-9739-49DC-BE0B-16A1F04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890-3C85-4E42-A98C-2C1F231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EBE-8BA3-4157-9BDA-8E1D09B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82B3-D29A-46F1-8161-C74A11D47A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6BCB-0CCA-485C-8DD2-0C0140DE89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C29A-B18B-4296-99F4-791C16A4F0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AE55-FD13-469B-A1D0-42673C3E7C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62E2-BC01-47D1-9126-BC48F0E941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Инфективне болести у трудноћ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ytomegalovirus(CMV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ијагноза се поставља на основу серологије(специфична IgM антитела,као и четрвороструки пораст IgG антител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траутерина инфекција  може да узрокује хепатоспленомегалију, ИУЗР,  микроцефалију, хидроцефалус или оштећења кранијалних нера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а нема само превенци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epatitis B virus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 који се преноси сексуалним путем, путем крви или телесних излучеви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матра се да су око 250 милиона људи хронични носиоци инфекције (предоминантно у Африци и Азији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лод се зарази вертикалном траснмисијом, интрапартално или постпартално; вероватноћа инфекције плода код Hbs позитивне мајке је око 7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68360" y="475920"/>
            <a:ext cx="8136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случају интраутерине инфекције може доћи до спонтаног побачаја, ИУЗР,  превременог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неонатуса који су Hbs позитивни клиничка слика је блага(иктерус, увећање трансаминаз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је превенција одноcно вакцинација; код Hbs позитивних мајки вакцинација плода се врши одмах након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IV virus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НК ретровирус који доводи до разарања  CD4 Т лимфоцита и води ка развоју AIDS-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гистрованих заражених око 50 милиона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ероватноћа трансмисије са мајке на плод је око 50 %; постоје случајеви интраутерине инфекције само једног близан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оже да доведе до спонтаног побачаја, превременог порођаја, ИУЗР или разних ембриопатија (микроцефалија,  краниоцефална дисморфија, хипертелоризам, деструкција тимуса, генерализована лимфаденопатиј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IV virus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ијагностикује се  доказивањем анти HIV антителима из серу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ериод инкубације од неколико недеља до годину да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је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zidotymidin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ји је блокатор реверзне транскриптазе; охрабрујући податц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HIV+ пацијенткиња се не препоручује инвазивна пренатална дијагностика; препоручује се вагинални порођај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ез дојења у пуерперјум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23640" y="1125360"/>
            <a:ext cx="835164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Период органогенезе који траје од  15-59 дана, је критичан за развој плода, када већина феталних малформација и наста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Већина инфективних болести у трудноћи, има погубан утицај како на мајку тако и на пл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1b190d"/>
                </a:solidFill>
                <a:latin typeface="Cambria"/>
              </a:rPr>
              <a:t>Највећи тератогени ефекат испољавају вирусне инфекције, које се јављају код претходно неимунизованих  трудни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ubella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НК вирус, из породице Togaviridae, преноси се респираторним пу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фекција је најпогубнија на почетку трудноће; јавља се и код 15 % претходно имунизованих особ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ериод инкубације траје 10-15 дана; после тога болест почиње неспецифичним симптомима (артралгија, мијалгија, главобоља) након чега се јавља карактеристична макуло-папулозна оспа праћена локалном лимфаденопатиј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ubella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колико се јави у раној трудноћи може да изазове конгенитални рубела синдром: микроцефалија, микрофталмија, енцефалитис, ментална ретардација, глувоћа, дегенеративне промене кост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колико се јави у каснијој трудноћи, може да  изазове Адисонову болест, ИУЗР, аутизам или дијабете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оказује се IgG антителима у серуму мајке (перзистирају око месец дан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плода ради се АЦ, КЦ; терапија не постој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SV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, из породице Herpesvirida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SV 1 вирус преноси се оралним путем; може да изазове лабијални херпес, стоматитис, ринитис, кераткоконјуктивитис, енцефалитис (ретко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лази најчешће спонтано и трајно перзистира у тригеминалним ганглиони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курентна инфекција у трудноћи нема значаја; само у случају имунокомпромитованих особа  може имати полседицу по мајку и по пл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SV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SV 2 (генитални херпес) вирус се преноси гениталним или оралним путе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Изазива генитални херпес (везикуло-папулозне промене) , у ретким случајевима менингитис или енцефалитис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еонатални херпес се може јавити и код примарне инфекције(40%) и код поновне инфекције(10%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Инфекција HSV 2 вирусом у раној трудноћи може да доведе до спонтаног побачаја, ИУЗР, превременог порођа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Инфекција фетуса/неонатуса доводи до хидроцефалуса, кератоконјуктивитиса, менингитиса/енцефалитис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SV вирус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иајгностикује се на основу клиничке слике и серумских антитела (IgM, IgG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је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cyclovi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( инхибитор вирусне тимидин киназ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сумње на инфекцију у раној трудноћи препоручује се амниоцентеза, кордоцентеза уз испитивање серусмких антите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инфекције у касној трудноћи, апсолутна индикација за царски рез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aricella zoster virus (VZV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 који се преноси капљично; после периода инкубације од 10-21 дана узрокује полиморфну оспу(везикула, пустула, круст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лази спонтано за 10-15 дана; компликације у виду пнеумоније или менингитиса су ретке, али изузетно опас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трудноћи примарна инфекција до 20 недеље гестације узрокује конгенитални варичела синдром аномалије ЦНС-а, хориретинитис, хипоплазије екстремитета, ожиљци на кожи; после 20 недеље узрокује тежак ИУЗР, неонаталну варичел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ytomegalovirus(CMV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НК вирус из групе Herpes viru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еома је распрострањен, сматра се да преко 60% популације је имало инфекцију CMV- ом; најчешћа интраутерина инфекција, јавља се у око 3% порођ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фекција може да буде примарна и секундарна; примарна инфекција је увек много опаснија по плод због имуног одговора мај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фекција мајке пролази најчешће асимпотамски; може да се пренесе хематогено трансплацентарно или интрапарталн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6:55Z</dcterms:modified>
  <cp:revision>205</cp:revision>
  <dc:subject/>
  <dc:title>ФАКУЛТЕТ МЕДИЦИНСКИХ НАУКА УНИВЕРЗИТЕТ У КРАГУЈЕВЦУ</dc:title>
</cp:coreProperties>
</file>